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C32-7C8B-47A5-8038-46139D23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274-51BE-4553-8102-403FCD44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E09-5350-4EB4-ACE5-2E4E4E73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86E-61D6-4CFC-9F52-10CB5824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831-ED5A-4083-A372-9DB89630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FF9-8294-4DC6-B53C-1737986C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58E-9BF6-4F9E-9D2E-AC20A9A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B0C-CAEA-4EF1-BBB2-EA98DE6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817-CEBA-4C54-940B-14E01036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FAD-BDE7-4DA2-A621-D70C7569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C12-3D94-4894-BE59-20CE37B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E00-1A0E-4BDC-959E-CCBCD533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B4B13-CF83-4977-9CD7-80B61830BE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Kael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3520" y="187128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's can be difference and their can be different ecosystem's and it can be large or sm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Eco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66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i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3280" y="1812600"/>
            <a:ext cx="90662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ome has a large area and has a major Biome's  and has heat, water and soi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ap for Rainfo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76360"/>
            <a:ext cx="916632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's in the Rainfo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600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's are in the rainforest and plants are in the rainforest and the rainforest is very wet and warm. The rainforest is 10,000 years old it very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28600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686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es has black and white strips  and they have a queen bee and pollen makes honey and if you mess with a bee they will sting you and  the length is ¾ to 1 inch ½ inch and they live in a wide worldw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le-Nosed Dolph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ottle nosed dolphin length is 9to 12 feet long  and the wight  of the bottle nosed dolphin wights up to 500 pounds or m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990440"/>
            <a:ext cx="90644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15000" cy="743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7960" y="3429000"/>
            <a:ext cx="6551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tp://www.school.eb.com/elementary/article?articleId=352858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4657680"/>
            <a:ext cx="80010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-nosed Dolphin. (2011). Amazing Animals of the World. Retrieved April 26, 2013, from Grolier Online http://ama.grolier.com/ncpage?tn=/article/article.html&amp;id=1040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7:31:48Z</dcterms:created>
  <dc:creator/>
  <dc:description/>
  <dc:language>en-US</dc:language>
  <cp:lastModifiedBy/>
  <cp:revision>1</cp:revision>
  <dc:subject/>
  <dc:title/>
</cp:coreProperties>
</file>